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62F6-A5D0-4C4C-A8AF-03EF0FB69E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5728-F05E-44D3-A8B2-5E97A89EE8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6F01-166E-4EBE-8A0B-D14EFC6481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575F-5EBF-444D-B564-6876F0CF94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7A12-345D-4683-A775-77B284D66A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3792-3ECC-47E5-BCB2-A210F6D14D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BEAE-B489-4347-960A-706F4497EF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B777-2B86-4F0B-AF3B-A11EEA2A05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01AE-C9BA-4FC7-A219-4443AB1D3F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F2C2-5E0E-4E49-9D32-4C24495350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A1E0-EB7E-4D76-8AB7-5869549C8D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95DE-0186-4B99-A69C-227914E396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0FCD-B06E-483C-B46F-656823CFB8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E15A-08C7-42A3-AA60-68EDD08A06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CB45-532E-4398-A508-29EAE735AA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7D38-2AD8-4CEC-B5E5-EFF9FF2DBC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547C-C261-426F-9CAB-CACBC640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6805-E070-411E-99A1-C2DF598C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9D58-D494-40D6-8F5F-3295CE14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27E5-4503-4C99-AFE1-AE1BBA02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7CB7-816F-4273-8689-BC970966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FBB-2E02-4C1B-A3A1-858B69AE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42B0-45BA-4EB7-B831-19AE536C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D37-0AAD-4D06-88AF-AA4B1FCB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9EA4-4768-473B-878B-0492BA30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E934-6D3F-4D4E-B3CF-60C158FC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78A9-8C8A-4463-B6EE-609CACEE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CBF-500B-450E-8922-77AE1196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CC25-9CED-4804-A05B-AEB61C135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28440" y="990720"/>
            <a:ext cx="7086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1.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Необходимость уделять время молитв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 успехе каждой встречи, а также во время вст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2.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Фокусирование на Библии.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ям необходимо слышать,          что вы говорите, а не то,                    что интерпретируете (посмотрите, например, на Даниила)                     «то, что говорит Библия» - позвольте Библии объяснять себ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752120" y="11430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тко представьте вашей аудитории,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что целью вашего семинара является прославление Иисуса Христ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сскажите о Христ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4.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Объясните участникам,                что мы изучаем события последних дней не только для того, чтобы понимать, что происходит                   в последние дни, но также,         чтобы подготовиться к ним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КОМАНДА ЕВАНГЕЛИСТОВ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Bookman Old Style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480" y="3657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Не мудро пытаться проводить евангельский семинар в одиночку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ругим людям также нужно получить опыт и благословения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Мы все обладаем разными духовными дарами. Для успешной программы нужны различные таланты и личностные характеристи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МАЛЕНЬКИЕ ПОДСКАЗКИ       ДЛЯ ЧЛЕНОВ КОМАНДЫ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Bookman Old Style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3428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могите членам команды понять,               что их попросили помочь регистрировать гостей, подготовить семинар                          или музыкальное выступление,                       но вся эта работа второстепенна.          </a:t>
            </a:r>
            <a:r>
              <a:rPr b="1" i="1" lang="ru-RU" sz="3100" spc="-1" strike="noStrike">
                <a:solidFill>
                  <a:srgbClr val="ff0000"/>
                </a:solidFill>
                <a:latin typeface="Calibri"/>
              </a:rPr>
              <a:t>Прежде всего, их попросили установить взаимоотношения  с посетителями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752480" y="838080"/>
            <a:ext cx="701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сле того, как вы познакомитесь                  с гостями, вы можете сесть рядом                  с ними во время семинара, запомнить         их имена и звонить им, если                       они пропускают встречу –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не ругайте гостей за пропуски, но проявите                к ним интерес и покажите, что вы       по-настоящему заботитесь о ни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говаривая с посетителями,                       не забегайте вперед и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не рассказывайте им о следующих темах.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905120" y="609480"/>
            <a:ext cx="6705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Окажите поддержку гостям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они столкнуться с трудностями                 в изучении истины, новой для н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жде всего,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ы принимаете участие в семинаре, чтобы подружи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огда ваши посетители придут          в церковь первый раз в субботу,     если возможно, пригласите                 их на обед к себе домой.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ьте    им увидеть, как вы испытываете радость от соблюдения суб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РУКОВОДЯЩИЕ ПРИНЦИПЫ    ДЛЯ РУКОВОДИТЕЛЕЙ СЕМИН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3733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же приведены руководящие принципы проведения евангельского семинара, разработанные человеком, который присоединился к церкви благодаря семинару по книге Откровение, и впоследствии проводившего семинары по книге Откровени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752480" y="838080"/>
            <a:ext cx="701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Каждый вечер используйте проектор и экран или другую видеотехнику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кую как компьютер, видеомагнитофон, большой телевизор, а также классную доск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ервый вечер расскажите вашим посетителя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все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раздаточные материалы бесплатны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8ed5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бедитесь, что зал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будет открыт        для вас за час до начала первой встреч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828440" y="9144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ы проводите семинар в малой группе или встречаетесь на дому,         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т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ы можете сесть вокруг стола             или по кругу в комнате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 прихода  гостей расставьте стол и стуль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последующих встречах вы можете раскладывать на столе 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только следующий урок.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752480" y="13716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вы ожидаете большое количество посетителей,                   то пригласите помощников, назначенных в вашей церкви.     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 первую встречу вам необходимо пригласить двух помощников на каждые 10-15 посетител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8 cover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28600" y="58104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Trajan Pro"/>
              </a:rPr>
              <a:t>ЕВАНГЕЛИЗМ </a:t>
            </a:r>
            <a:r>
              <a:rPr b="1" lang="ru-RU" sz="4000" spc="-1" strike="noStrike">
                <a:solidFill>
                  <a:srgbClr val="c00000"/>
                </a:solidFill>
                <a:latin typeface="Trajan Pro"/>
              </a:rPr>
              <a:t>ДЛЯ КАЖД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762440" y="1959120"/>
            <a:ext cx="438156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Calibri"/>
              </a:rPr>
              <a:t>Глава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  <a:ea typeface="Calibri"/>
              </a:rPr>
              <a:t>8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еминар </a:t>
            </a:r>
            <a:r>
              <a:rPr b="1" lang="en-US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  </a:t>
            </a:r>
            <a:r>
              <a:rPr b="1" lang="ru-RU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как вид евангельск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5257800" y="579132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Генера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6877080" y="5410080"/>
            <a:ext cx="60948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828440" y="837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учите одному помощнику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написать  на бейджиках имена ваших посетителей.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вечер после программы предлагайте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ответить на вопросы вопросника и оставить конверты                с пожертвованиями на стол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се записи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лайте своевремен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о прошествии нескольких встреч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вы можете открыть книжную лав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600200" y="6854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 время первых встреч побуждайте людей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приглашать своих друзей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мните о том, что люди изучают урок         до прихода на вашу встречу, поэтому вам необходимо хорошо рассмотреть его            во время встреч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вы запланировали серию евангельских встреч и не закончили уроки, расскажите участникам об этом на первой встрече           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и регулярно напоминайте о том, что ваши встречи лишь прелюдия к более детальному изучению, которое будет предложено позж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P:\DEPT\WM\_SHARED\2011 Adviosry Resources\Nurture-Empower-Outreach\EMPOWER\EVANGELISM MANUAL - EDITED\PP evangelism\Chapter 08 tex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609480" y="2971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b0f0"/>
                </a:solidFill>
                <a:latin typeface="Calibri"/>
              </a:rPr>
              <a:t>Визуализация – ключ к успеху. </a:t>
            </a:r>
            <a:r>
              <a:rPr b="1" lang="ru-RU" sz="3300" spc="-1" strike="noStrike">
                <a:solidFill>
                  <a:srgbClr val="f2f2f2"/>
                </a:solidFill>
                <a:latin typeface="Calibri"/>
              </a:rPr>
              <a:t>По мере того, как ваши дружеские отношения будут укрепляться и у людей будет возможность открываться, вы можете поделиться евангельской вестью в более полном объеме. </a:t>
            </a:r>
            <a:r>
              <a:rPr b="1" i="1" lang="ru-RU" sz="3300" spc="-1" strike="noStrike">
                <a:solidFill>
                  <a:srgbClr val="f2f2f2"/>
                </a:solidFill>
                <a:latin typeface="Calibri"/>
              </a:rPr>
              <a:t>(Для более подробного описания читайте главу 12</a:t>
            </a:r>
            <a:r>
              <a:rPr b="1" lang="ru-RU" sz="33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i="1" lang="ru-RU" sz="3300" spc="-1" strike="noStrike">
                <a:solidFill>
                  <a:srgbClr val="f2f2f2"/>
                </a:solidFill>
                <a:latin typeface="Calibri"/>
              </a:rPr>
              <a:t>«Посещения   и принятие решений»).</a:t>
            </a:r>
            <a:r>
              <a:rPr b="0" lang="ru-RU" sz="33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8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80520" y="2286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«Каждая община должна быть школой подготовки для христиан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ждого члена церкви следует обучать проведению библейских занятий с другими людьми, проведению уроков субботней школы, а также как наилучшим образом помочь бедным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позаботиться о больных, как работать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необращенными. Необходимо организовывать школы здорового образа жизни, кулинарные школы, а также занятия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различным направлениям христианской благотворительной деятельност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8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8088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ходимо, чтобы теоретическое обучение тесно переплеталось с реальной практической деятельностью под руководством опытных наставников. Пусть учителя покажут пример работы с людьми, а другие, присоединившись     к ним, учатся на их примере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Один практический пример гораздо более ценен, чем многие теоретические предписания»,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лужение исцелен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тр. 148,14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26665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минар как вид евангельской работы представляет собой скорее методичное изложение темы, чем изучение Библии        или изучение в малых группах, но вместе           с тем, он не настолько строг по своей форме, как евангельская программа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анный семинар предусматривает приглашение к диалогу       и участию, которые не может предложить обычная евангельская программ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0070c0"/>
                </a:solidFill>
                <a:latin typeface="Bookman Old Style"/>
              </a:rPr>
              <a:t>КАК ВАМ ПОДГОТОВИТЬ СЕМИНАР</a:t>
            </a:r>
            <a:r>
              <a:rPr b="1" lang="en-US" sz="4800" spc="-1" strike="noStrike">
                <a:solidFill>
                  <a:srgbClr val="0070c0"/>
                </a:solidFill>
                <a:latin typeface="Bookman Old Style"/>
              </a:rPr>
              <a:t>?  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52120" y="2362320"/>
            <a:ext cx="70866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 основном подготовка к семинару напоминает подготовку к большой евангельской кампании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 лишь отличие – человек, который будет представлять тему, будет лектором или преподавателем, а не евангелистом или проповедни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2437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Совершая евангельскую работу, женщинам очень важно работать вместе.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ким образом, мы сможем поддерживать друг друга                и делиться своими идеями. Мы можем молиться вместе о наших гостях и также друг  о друге, объединяя нашу команду в Господе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Когда женщины соглашаются работать вместе во имя благой цели, благодаря Божьему руководству, они могут достичь таких успехов, о которые даже не представля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33520" y="2819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вангельский семинар – улучшенный вид работы, когда посвященные женщины     из церкви могут стать друзьями тем,       кто его посещает.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чше всего, если каждый вечер они будут приглашать           на семинар своих друзей, членов семьи      и сосед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КЛЮЧИ К УСПЕХ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3733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иже предложены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етыр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очень важных ключа для успеха любой евангельской инициатив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особенно важные            для проведения семина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28:44Z</dcterms:created>
  <dc:creator/>
  <dc:description/>
  <dc:language>en-US</dc:language>
  <cp:lastModifiedBy/>
  <dcterms:modified xsi:type="dcterms:W3CDTF">2011-08-21T07:13:31Z</dcterms:modified>
  <cp:revision>0</cp:revision>
  <dc:subject/>
  <dc:title/>
</cp:coreProperties>
</file>